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8438"/>
        <c:axId val="45629306"/>
      </c:barChart>
      <c:catAx>
        <c:axId val="66738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29306"/>
        <c:crosses val="autoZero"/>
        <c:auto val="1"/>
        <c:lblAlgn val="ctr"/>
        <c:lblOffset val="100"/>
        <c:noMultiLvlLbl val="0"/>
      </c:catAx>
      <c:valAx>
        <c:axId val="45629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8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46B-B062-45E2-9EDD-97B6FC21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8CA-BBF1-4672-BE50-E88ECB8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588-CADE-46DA-8518-4670EA0D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626-45FA-4C6E-AB64-EC7E6CFC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6FB-C970-46A0-8E35-AE1DEB57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290-775A-4EAB-ABEF-44C6746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AB9-820F-4279-92F1-AC06D7C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68D-257C-478B-A537-B02FFC1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821-E980-4FF2-A72E-FF58D84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876-0000-44B4-8090-75D86AB8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7C2-6B4B-486B-84DB-80CB9BA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779-41CA-4B40-A074-BC41A6B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1F70-2F9F-4950-90E0-8067AB2D7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